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328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26.xml.rels" ContentType="application/vnd.openxmlformats-package.relationships+xml"/>
  <Override PartName="/ppt/slides/_rels/slide322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1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52.xml.rels" ContentType="application/vnd.openxmlformats-package.relationships+xml"/>
  <Override PartName="/ppt/slides/_rels/slide347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51.xml.rels" ContentType="application/vnd.openxmlformats-package.relationships+xml"/>
  <Override PartName="/ppt/slides/_rels/slide346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45.xml.rels" ContentType="application/vnd.openxmlformats-package.relationships+xml"/>
  <Override PartName="/ppt/slides/_rels/slide336.xml.rels" ContentType="application/vnd.openxmlformats-package.relationships+xml"/>
  <Override PartName="/ppt/slides/_rels/slide341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369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40.xml.rels" ContentType="application/vnd.openxmlformats-package.relationships+xml"/>
  <Override PartName="/ppt/slides/_rels/slide33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368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154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162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2.xml.rels" ContentType="application/vnd.openxmlformats-package.relationships+xml"/>
  <Override PartName="/ppt/slides/_rels/slide160.xml.rels" ContentType="application/vnd.openxmlformats-package.relationships+xml"/>
  <Override PartName="/ppt/slides/_rels/slide326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256.xml.rels" ContentType="application/vnd.openxmlformats-package.relationships+xml"/>
  <Override PartName="/ppt/slides/_rels/slide327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357.xml.rels" ContentType="application/vnd.openxmlformats-package.relationships+xml"/>
  <Override PartName="/ppt/slides/_rels/slide67.xml.rels" ContentType="application/vnd.openxmlformats-package.relationships+xml"/>
  <Override PartName="/ppt/slides/_rels/slide363.xml.rels" ContentType="application/vnd.openxmlformats-package.relationships+xml"/>
  <Override PartName="/ppt/slides/_rels/slide358.xml.rels" ContentType="application/vnd.openxmlformats-package.relationships+xml"/>
  <Override PartName="/ppt/slides/_rels/slide120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101.xml.rels" ContentType="application/vnd.openxmlformats-package.relationships+xml"/>
  <Override PartName="/ppt/slides/_rels/slide170.xml.rels" ContentType="application/vnd.openxmlformats-package.relationships+xml"/>
  <Override PartName="/ppt/slides/_rels/slide102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139.xml.rels" ContentType="application/vnd.openxmlformats-package.relationships+xml"/>
  <Override PartName="/ppt/slides/_rels/slide286.xml.rels" ContentType="application/vnd.openxmlformats-package.relationships+xml"/>
  <Override PartName="/ppt/slides/_rels/slide143.xml.rels" ContentType="application/vnd.openxmlformats-package.relationships+xml"/>
  <Override PartName="/ppt/slides/_rels/slide290.xml.rels" ContentType="application/vnd.openxmlformats-package.relationships+xml"/>
  <Override PartName="/ppt/slides/_rels/slide311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287.xml.rels" ContentType="application/vnd.openxmlformats-package.relationships+xml"/>
  <Override PartName="/ppt/slides/_rels/slide144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9.xml.rels" ContentType="application/vnd.openxmlformats-package.relationships+xml"/>
  <Override PartName="/ppt/slides/_rels/slide356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355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97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59.xml.rels" ContentType="application/vnd.openxmlformats-package.relationships+xml"/>
  <Override PartName="/ppt/slides/_rels/slide171.xml.rels" ContentType="application/vnd.openxmlformats-package.relationships+xml"/>
  <Override PartName="/ppt/slides/_rels/slide200.xml.rels" ContentType="application/vnd.openxmlformats-package.relationships+xml"/>
  <Override PartName="/ppt/slides/_rels/slide329.xml.rels" ContentType="application/vnd.openxmlformats-package.relationships+xml"/>
  <Override PartName="/ppt/slides/_rels/slide166.xml.rels" ContentType="application/vnd.openxmlformats-package.relationships+xml"/>
  <Override PartName="/ppt/slides/_rels/slide167.xml.rels" ContentType="application/vnd.openxmlformats-package.relationships+xml"/>
  <Override PartName="/ppt/slides/_rels/slide78.xml.rels" ContentType="application/vnd.openxmlformats-package.relationships+xml"/>
  <Override PartName="/ppt/slides/_rels/slide224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234.xml.rels" ContentType="application/vnd.openxmlformats-package.relationships+xml"/>
  <Override PartName="/ppt/slides/_rels/slide229.xml.rels" ContentType="application/vnd.openxmlformats-package.relationships+xml"/>
  <Override PartName="/ppt/slides/_rels/slide236.xml.rels" ContentType="application/vnd.openxmlformats-package.relationships+xml"/>
  <Override PartName="/ppt/slides/_rels/slide254.xml.rels" ContentType="application/vnd.openxmlformats-package.relationships+xml"/>
  <Override PartName="/ppt/slides/_rels/slide24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7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103.xml.rels" ContentType="application/vnd.openxmlformats-package.relationships+xml"/>
  <Override PartName="/ppt/slides/_rels/slide60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225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116.xml.rels" ContentType="application/vnd.openxmlformats-package.relationships+xml"/>
  <Override PartName="/ppt/slides/_rels/slide235.xml.rels" ContentType="application/vnd.openxmlformats-package.relationships+xml"/>
  <Override PartName="/ppt/slides/_rels/slide63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261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258.xml.rels" ContentType="application/vnd.openxmlformats-package.relationships+xml"/>
  <Override PartName="/ppt/slides/_rels/slide362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344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354.xml.rels" ContentType="application/vnd.openxmlformats-package.relationships+xml"/>
  <Override PartName="/ppt/slides/_rels/slide349.xml.rels" ContentType="application/vnd.openxmlformats-package.relationships+xml"/>
  <Override PartName="/ppt/slides/_rels/slide350.xml.rels" ContentType="application/vnd.openxmlformats-package.relationships+xml"/>
  <Override PartName="/ppt/slides/_rels/slide246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7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36.xml.rels" ContentType="application/vnd.openxmlformats-package.relationships+xml"/>
  <Override PartName="/ppt/slides/_rels/slide332.xml.rels" ContentType="application/vnd.openxmlformats-package.relationships+xml"/>
  <Override PartName="/ppt/slides/_rels/slide41.xml.rels" ContentType="application/vnd.openxmlformats-package.relationships+xml"/>
  <Override PartName="/ppt/slides/_rels/slide205.xml.rels" ContentType="application/vnd.openxmlformats-package.relationships+xml"/>
  <Override PartName="/ppt/slides/_rels/slide210.xml.rels" ContentType="application/vnd.openxmlformats-package.relationships+xml"/>
  <Override PartName="/ppt/slides/_rels/slide184.xml.rels" ContentType="application/vnd.openxmlformats-package.relationships+xml"/>
  <Override PartName="/ppt/slides/_rels/slide249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339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345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77.xml.rels" ContentType="application/vnd.openxmlformats-package.relationships+xml"/>
  <Override PartName="/ppt/slides/_rels/slide70.xml.rels" ContentType="application/vnd.openxmlformats-package.relationships+xml"/>
  <Override PartName="/ppt/slides/_rels/slide361.xml.rels" ContentType="application/vnd.openxmlformats-package.relationships+xml"/>
  <Override PartName="/ppt/slides/_rels/slide257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66.xml.rels" ContentType="application/vnd.openxmlformats-package.relationships+xml"/>
  <Override PartName="/ppt/slides/_rels/slide57.xml.rels" ContentType="application/vnd.openxmlformats-package.relationships+xml"/>
  <Override PartName="/ppt/slides/_rels/slide348.xml.rels" ContentType="application/vnd.openxmlformats-package.relationships+xml"/>
  <Override PartName="/ppt/slides/_rels/slide353.xml.rels" ContentType="application/vnd.openxmlformats-package.relationships+xml"/>
  <Override PartName="/ppt/slides/_rels/slide367.xml.rels" ContentType="application/vnd.openxmlformats-package.relationships+xml"/>
  <Override PartName="/ppt/slides/_rels/slide17.xml.rels" ContentType="application/vnd.openxmlformats-package.relationships+xml"/>
  <Override PartName="/ppt/slides/_rels/slide313.xml.rels" ContentType="application/vnd.openxmlformats-package.relationships+xml"/>
  <Override PartName="/ppt/slides/_rels/slide308.xml.rels" ContentType="application/vnd.openxmlformats-package.relationships+xml"/>
  <Override PartName="/ppt/slides/_rels/slide68.xml.rels" ContentType="application/vnd.openxmlformats-package.relationships+xml"/>
  <Override PartName="/ppt/slides/_rels/slide359.xml.rels" ContentType="application/vnd.openxmlformats-package.relationships+xml"/>
  <Override PartName="/ppt/slides/_rels/slide364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69.xml.rels" ContentType="application/vnd.openxmlformats-package.relationships+xml"/>
  <Override PartName="/ppt/slides/_rels/slide365.xml.rels" ContentType="application/vnd.openxmlformats-package.relationships+xml"/>
  <Override PartName="/ppt/slides/_rels/slide19.xml.rels" ContentType="application/vnd.openxmlformats-package.relationships+xml"/>
  <Override PartName="/ppt/slides/_rels/slide289.xml.rels" ContentType="application/vnd.openxmlformats-package.relationships+xml"/>
  <Override PartName="/ppt/slides/_rels/slide315.xml.rels" ContentType="application/vnd.openxmlformats-package.relationships+xml"/>
  <Override PartName="/ppt/slides/_rels/slide294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278.xml.rels" ContentType="application/vnd.openxmlformats-package.relationships+xml"/>
  <Override PartName="/ppt/slides/_rels/slide283.xml.rels" ContentType="application/vnd.openxmlformats-package.relationships+xml"/>
  <Override PartName="/ppt/slides/_rels/slide304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18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279.xml.rels" ContentType="application/vnd.openxmlformats-package.relationships+xml"/>
  <Override PartName="/ppt/slides/_rels/slide284.xml.rels" ContentType="application/vnd.openxmlformats-package.relationships+xml"/>
  <Override PartName="/ppt/slides/_rels/slide305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89.xml.rels" ContentType="application/vnd.openxmlformats-package.relationships+xml"/>
  <Override PartName="/ppt/slides/_rels/slide293.xml.rels" ContentType="application/vnd.openxmlformats-package.relationships+xml"/>
  <Override PartName="/ppt/slides/_rels/slide190.xml.rels" ContentType="application/vnd.openxmlformats-package.relationships+xml"/>
  <Override PartName="/ppt/slides/_rels/slide185.xml.rels" ContentType="application/vnd.openxmlformats-package.relationships+xml"/>
  <Override PartName="/ppt/slides/_rels/slide211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201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366.xml" ContentType="application/vnd.openxmlformats-officedocument.presentationml.slide+xml"/>
  <Override PartName="/ppt/slides/slide10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68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364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103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365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270.xml" ContentType="application/vnd.openxmlformats-officedocument.presentationml.slide+xml"/>
  <Override PartName="/ppt/slides/slide271.xml" ContentType="application/vnd.openxmlformats-officedocument.presentationml.slide+xml"/>
  <Override PartName="/ppt/slides/slide272.xml" ContentType="application/vnd.openxmlformats-officedocument.presentationml.slide+xml"/>
  <Override PartName="/ppt/slides/slide273.xml" ContentType="application/vnd.openxmlformats-officedocument.presentationml.slide+xml"/>
  <Override PartName="/ppt/slides/slide274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347.xml" ContentType="application/vnd.openxmlformats-officedocument.presentationml.slide+xml"/>
  <Override PartName="/ppt/slides/slide181.xml" ContentType="application/vnd.openxmlformats-officedocument.presentationml.slide+xml"/>
  <Override PartName="/ppt/slides/slide113.xml" ContentType="application/vnd.openxmlformats-officedocument.presentationml.slide+xml"/>
  <Override PartName="/ppt/slides/slide275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79.xml" ContentType="application/vnd.openxmlformats-officedocument.presentationml.slide+xml"/>
  <Override PartName="/ppt/slides/slide280.xml" ContentType="application/vnd.openxmlformats-officedocument.presentationml.slide+xml"/>
  <Override PartName="/ppt/slides/slide281.xml" ContentType="application/vnd.openxmlformats-officedocument.presentationml.slide+xml"/>
  <Override PartName="/ppt/slides/slide282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27.xml" ContentType="application/vnd.openxmlformats-officedocument.presentationml.slide+xml"/>
  <Override PartName="/ppt/slides/slide357.xml" ContentType="application/vnd.openxmlformats-officedocument.presentationml.slide+xml"/>
  <Override PartName="/ppt/slides/slide19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85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340.xml" ContentType="application/vnd.openxmlformats-officedocument.presentationml.slide+xml"/>
  <Override PartName="/ppt/slides/slide341.xml" ContentType="application/vnd.openxmlformats-officedocument.presentationml.slide+xml"/>
  <Override PartName="/ppt/slides/slide342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291.xml" ContentType="application/vnd.openxmlformats-officedocument.presentationml.slide+xml"/>
  <Override PartName="/ppt/slides/slide34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292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350.xml" ContentType="application/vnd.openxmlformats-officedocument.presentationml.slide+xml"/>
  <Override PartName="/ppt/slides/slide351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332.xml" ContentType="application/vnd.openxmlformats-officedocument.presentationml.slide+xml"/>
  <Override PartName="/ppt/slides/slide262.xml" ContentType="application/vnd.openxmlformats-officedocument.presentationml.slide+xml"/>
  <Override PartName="/ppt/slides/slide367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330.xml" ContentType="application/vnd.openxmlformats-officedocument.presentationml.slide+xml"/>
  <Override PartName="/ppt/slides/slide355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331.xml" ContentType="application/vnd.openxmlformats-officedocument.presentationml.slide+xml"/>
  <Override PartName="/ppt/slides/slide261.xml" ContentType="application/vnd.openxmlformats-officedocument.presentationml.slide+xml"/>
  <Override PartName="/ppt/slides/slide354.xml" ContentType="application/vnd.openxmlformats-officedocument.presentationml.slide+xml"/>
  <Override PartName="/ppt/slides/slide65.xml" ContentType="application/vnd.openxmlformats-officedocument.presentationml.slide+xml"/>
  <Override PartName="/ppt/slides/slide260.xml" ContentType="application/vnd.openxmlformats-officedocument.presentationml.slide+xml"/>
  <Override PartName="/ppt/slides/slide353.xml" ContentType="application/vnd.openxmlformats-officedocument.presentationml.slide+xml"/>
  <Override PartName="/ppt/slides/slide64.xml" ContentType="application/vnd.openxmlformats-officedocument.presentationml.slide+xml"/>
  <Override PartName="/ppt/slides/slide352.xml" ContentType="application/vnd.openxmlformats-officedocument.presentationml.slide+xml"/>
  <Override PartName="/ppt/slides/slide363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62.xml" ContentType="application/vnd.openxmlformats-officedocument.presentationml.slide+xml"/>
  <Override PartName="/ppt/slides/slide101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61.xml" ContentType="application/vnd.openxmlformats-officedocument.presentationml.slide+xml"/>
  <Override PartName="/ppt/slides/slide100.xml" ContentType="application/vnd.openxmlformats-officedocument.presentationml.slide+xml"/>
  <Override PartName="/ppt/slides/slide360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51.xml" ContentType="application/vnd.openxmlformats-officedocument.presentationml.slide+xml"/>
  <Override PartName="/ppt/slides/slide317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0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299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98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29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70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289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286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300.xml" ContentType="application/vnd.openxmlformats-officedocument.presentationml.slide+xml"/>
  <Override PartName="/ppt/slides/slide293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190.xml" ContentType="application/vnd.openxmlformats-officedocument.presentationml.slide+xml"/>
  <Override PartName="/ppt/slides/slide356.xml" ContentType="application/vnd.openxmlformats-officedocument.presentationml.slide+xml"/>
  <Override PartName="/ppt/slides/slide67.xml" ContentType="application/vnd.openxmlformats-officedocument.presentationml.slide+xml"/>
  <Override PartName="/ppt/slides/slide69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368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369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20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  <p:sldId id="600" r:id="rId348"/>
    <p:sldId id="601" r:id="rId349"/>
    <p:sldId id="602" r:id="rId350"/>
    <p:sldId id="603" r:id="rId351"/>
    <p:sldId id="604" r:id="rId352"/>
    <p:sldId id="605" r:id="rId353"/>
    <p:sldId id="606" r:id="rId354"/>
    <p:sldId id="607" r:id="rId355"/>
    <p:sldId id="608" r:id="rId356"/>
    <p:sldId id="609" r:id="rId357"/>
    <p:sldId id="610" r:id="rId358"/>
    <p:sldId id="611" r:id="rId359"/>
    <p:sldId id="612" r:id="rId360"/>
    <p:sldId id="613" r:id="rId361"/>
    <p:sldId id="614" r:id="rId362"/>
    <p:sldId id="615" r:id="rId363"/>
    <p:sldId id="616" r:id="rId364"/>
    <p:sldId id="617" r:id="rId365"/>
    <p:sldId id="618" r:id="rId366"/>
    <p:sldId id="619" r:id="rId367"/>
    <p:sldId id="620" r:id="rId368"/>
    <p:sldId id="621" r:id="rId369"/>
    <p:sldId id="622" r:id="rId370"/>
    <p:sldId id="623" r:id="rId371"/>
    <p:sldId id="624" r:id="rId372"/>
    <p:sldId id="625" r:id="rId3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slide" Target="slides/slide345.xml"/><Relationship Id="rId349" Type="http://schemas.openxmlformats.org/officeDocument/2006/relationships/slide" Target="slides/slide346.xml"/><Relationship Id="rId350" Type="http://schemas.openxmlformats.org/officeDocument/2006/relationships/slide" Target="slides/slide347.xml"/><Relationship Id="rId351" Type="http://schemas.openxmlformats.org/officeDocument/2006/relationships/slide" Target="slides/slide348.xml"/><Relationship Id="rId352" Type="http://schemas.openxmlformats.org/officeDocument/2006/relationships/slide" Target="slides/slide349.xml"/><Relationship Id="rId353" Type="http://schemas.openxmlformats.org/officeDocument/2006/relationships/slide" Target="slides/slide350.xml"/><Relationship Id="rId354" Type="http://schemas.openxmlformats.org/officeDocument/2006/relationships/slide" Target="slides/slide351.xml"/><Relationship Id="rId355" Type="http://schemas.openxmlformats.org/officeDocument/2006/relationships/slide" Target="slides/slide352.xml"/><Relationship Id="rId356" Type="http://schemas.openxmlformats.org/officeDocument/2006/relationships/slide" Target="slides/slide353.xml"/><Relationship Id="rId357" Type="http://schemas.openxmlformats.org/officeDocument/2006/relationships/slide" Target="slides/slide354.xml"/><Relationship Id="rId358" Type="http://schemas.openxmlformats.org/officeDocument/2006/relationships/slide" Target="slides/slide355.xml"/><Relationship Id="rId359" Type="http://schemas.openxmlformats.org/officeDocument/2006/relationships/slide" Target="slides/slide356.xml"/><Relationship Id="rId360" Type="http://schemas.openxmlformats.org/officeDocument/2006/relationships/slide" Target="slides/slide357.xml"/><Relationship Id="rId361" Type="http://schemas.openxmlformats.org/officeDocument/2006/relationships/slide" Target="slides/slide358.xml"/><Relationship Id="rId362" Type="http://schemas.openxmlformats.org/officeDocument/2006/relationships/slide" Target="slides/slide359.xml"/><Relationship Id="rId363" Type="http://schemas.openxmlformats.org/officeDocument/2006/relationships/slide" Target="slides/slide360.xml"/><Relationship Id="rId364" Type="http://schemas.openxmlformats.org/officeDocument/2006/relationships/slide" Target="slides/slide361.xml"/><Relationship Id="rId365" Type="http://schemas.openxmlformats.org/officeDocument/2006/relationships/slide" Target="slides/slide362.xml"/><Relationship Id="rId366" Type="http://schemas.openxmlformats.org/officeDocument/2006/relationships/slide" Target="slides/slide363.xml"/><Relationship Id="rId367" Type="http://schemas.openxmlformats.org/officeDocument/2006/relationships/slide" Target="slides/slide364.xml"/><Relationship Id="rId368" Type="http://schemas.openxmlformats.org/officeDocument/2006/relationships/slide" Target="slides/slide365.xml"/><Relationship Id="rId369" Type="http://schemas.openxmlformats.org/officeDocument/2006/relationships/slide" Target="slides/slide366.xml"/><Relationship Id="rId370" Type="http://schemas.openxmlformats.org/officeDocument/2006/relationships/slide" Target="slides/slide367.xml"/><Relationship Id="rId371" Type="http://schemas.openxmlformats.org/officeDocument/2006/relationships/slide" Target="slides/slide368.xml"/><Relationship Id="rId372" Type="http://schemas.openxmlformats.org/officeDocument/2006/relationships/slide" Target="slides/slide369.xml"/><Relationship Id="rId373" Type="http://schemas.openxmlformats.org/officeDocument/2006/relationships/slide" Target="slides/slide370.xml"/><Relationship Id="rId3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809640" y="5110920"/>
            <a:ext cx="7958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09640" y="511092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87360" y="511092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0280" y="320040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90920" y="320040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809640" y="511092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00280" y="511092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90920" y="511092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652-872B-41C5-ACAB-37259C58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BD9-0885-43AB-9DD7-433915AE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A98-F7E0-47EA-8634-E636F9D0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F12-597F-48A6-B010-FE446A1F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B7C1-54E7-462E-94DD-A2F0A3EF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28240"/>
            <a:ext cx="8229600" cy="134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E56-BA5E-4553-B310-D8EC416A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09640" y="511092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A68-E9B5-456E-9140-30360538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87360" y="511092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DA5-5195-43EE-9B6C-515CE0FE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09640" y="5110920"/>
            <a:ext cx="7958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E03E-E33E-4A7B-81B0-0140F21E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09640" y="5110920"/>
            <a:ext cx="7958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EC0-9FAB-45FA-BD56-EEC60BC4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09640" y="511092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87360" y="511092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287-2B58-4B16-96F1-E8E37DF2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0280" y="320040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90920" y="320040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09640" y="511092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00280" y="511092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90920" y="5110920"/>
            <a:ext cx="2562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372-E41D-4875-91EB-F56BE34D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28240"/>
            <a:ext cx="8229600" cy="134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9640" y="511092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87360" y="511092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3200400"/>
            <a:ext cx="3883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09640" y="5110920"/>
            <a:ext cx="7958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647640" cy="6713280"/>
            <a:chOff x="0" y="68400"/>
            <a:chExt cx="647640" cy="6713280"/>
          </a:xfrm>
        </p:grpSpPr>
        <p:sp>
          <p:nvSpPr>
            <p:cNvPr id="1" name=""/>
            <p:cNvSpPr/>
            <p:nvPr/>
          </p:nvSpPr>
          <p:spPr>
            <a:xfrm>
              <a:off x="0" y="66722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72948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7816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2932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533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6009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58197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77692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3817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1815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0530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482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8532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9389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2532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2197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55720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562932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56815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54291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535320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55008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47196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46767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52815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50817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49528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52484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0" y="47530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48387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0" y="51530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0" y="51195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49424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3657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42512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0" y="45655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45324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40543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0" y="41115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41641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39117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38354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830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37638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35640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7306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6352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6021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3814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383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909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385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1622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3098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5290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861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0909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8908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7622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0574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5621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64780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9624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9289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2813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3385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3907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1384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2096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6128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5699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9749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8464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6462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7319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20462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20131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3651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4223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4749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12222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2938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1397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0256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8287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859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9381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858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094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7570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382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047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096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112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840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43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2300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207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74680" y="0"/>
            <a:ext cx="549360" cy="30384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253200" cy="162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890800" y="3025800"/>
            <a:ext cx="6253200" cy="708120"/>
            <a:chOff x="2890800" y="3025800"/>
            <a:chExt cx="6253200" cy="708120"/>
          </a:xfrm>
        </p:grpSpPr>
        <p:sp>
          <p:nvSpPr>
            <p:cNvPr id="102" name=""/>
            <p:cNvSpPr/>
            <p:nvPr/>
          </p:nvSpPr>
          <p:spPr>
            <a:xfrm>
              <a:off x="7361280" y="3025800"/>
              <a:ext cx="1628640" cy="708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0800" y="3344760"/>
              <a:ext cx="6253200" cy="1634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64000"/>
          </a:bodyPr>
          <a:p>
            <a:pPr marL="219240"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lick to edit the outline text forma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  <a:p>
            <a:pPr lvl="1" marL="219240" indent="-219240" algn="ctr">
              <a:spcBef>
                <a:spcPts val="11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econd Outline Leve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  <a:p>
            <a:pPr lvl="2" marL="219240" indent="-219240" algn="ctr">
              <a:spcBef>
                <a:spcPts val="11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hird Outline Leve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  <a:p>
            <a:pPr lvl="3" marL="219240" indent="-219240" algn="ctr">
              <a:spcBef>
                <a:spcPts val="11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ourth Outline Leve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  <a:p>
            <a:pPr lvl="4" marL="219240" indent="-219240" algn="ctr">
              <a:spcBef>
                <a:spcPts val="11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ifth Outline Leve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  <a:p>
            <a:pPr lvl="5" marL="219240" indent="-219240" algn="ctr">
              <a:spcBef>
                <a:spcPts val="11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ixth Outline Leve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  <a:p>
            <a:pPr lvl="6" marL="219240" indent="-219240" algn="ctr">
              <a:spcBef>
                <a:spcPts val="11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eventh Outline Leve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3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5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PlaceHolder 1"/>
          <p:cNvSpPr>
            <a:spLocks noGrp="1"/>
          </p:cNvSpPr>
          <p:nvPr>
            <p:ph type="dt" idx="1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ftr" idx="2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3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8D91-9930-46E1-AAB3-CB872007C5D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lick to edit the outline text forma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  <a:p>
            <a:pPr lvl="1" marL="324360"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2" marL="608400" algn="ctr">
              <a:spcBef>
                <a:spcPts val="11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3" marL="852120" algn="ctr">
              <a:spcBef>
                <a:spcPts val="11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4" marL="1095480" algn="ctr">
              <a:spcBef>
                <a:spcPts val="11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5" marL="1095480">
              <a:spcBef>
                <a:spcPts val="11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6" marL="1095480">
              <a:spcBef>
                <a:spcPts val="11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sland did Napoleon come fro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orsic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formed the Quadruple Alliance against hi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B, Austria, Prussia, Russ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Marx’s major work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ommunist Manifesto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4 parts of the Charter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universal suff, salaries for Commons, no prop. req., annual elections, equal district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Marx feel was necessary to reorganize society?  Would this entity be permanen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Dictatorship of the proletariat, no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as Marx’s chief cohort?  What did they believe was the main purpose of the modern stat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ngels, committee that allowed the ownership class to exploit the worker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Marx believe would be the culminating event of histor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lash between P &amp; B, leading to a society without oppress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anarchists want?  Wh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nd to ind. &amp; Gov’t, because ind. &amp; gov’t limit freedom in people’s liv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3 general causes of the Revs. of 1848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unger (bad harvests), unemployment, poor living &amp; working conditions, political oppress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many separate revolts took place in 1848?  Which was the first major uprising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Over 50, the February Revolution in Franc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chief cause of the start of the February French Rev. of 1848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epression by Louis Phillippe (banning the banquets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the poor flood into Paris as soon as the Rev. bega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o work in the workshop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foreign minister from Austria comes to the fore at the COV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etternich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first example of class warfare?  Who were the two groups involved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June Days of the French Rev. of 1848, the radical working poor and the French Arm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main thing that helped Louis Napoleon get elected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name recognition &amp; desire for order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led the revolt in Vienna?  What major figure fled at the start of their uprising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cademic legions (student nationalists), Metternich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The Magyars blew it because they ______ when they tried to rebel against the Austrians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nnexed Romania, Croatia &amp; Serbia (treated others like the Austrians had treated them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rulers all over the Germanic Confederation respond to the uprisings by workers and peasants in 1848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ade concessions, promised constitutions, and sent reps to the Frankfurt Parliamen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kind of people were in the Frankfurt Parliament?  What was their chief task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iberals, write a cons. for united German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the members of the Frankfurt Parliament fail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oo liberal (ignored Conservatives &amp; workers) and too slow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group did Guiseppe Mazzini lead?  What did the group wan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Young Italy, a united Italy with a republican governmen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the Pope respond to the declaration of a Roman Republic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e fled, was not as liberal as he claimed to b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goes in to Italy to squash revolt &amp; put the Pope back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rance &amp; Louis Napole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reaty and 2 battles were key in giving Napoleon control of Europ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usterlitz (Austria), Jena (Prussia), and the Treaty of Tilsit with Russ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two Great Powers fought Russia in the Crimean War? What 2 powers stayed neutral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France &amp; GB, Prussia &amp; Austria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were the Russians’ goals in the Crimean War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Protect the Xians in Ottoman Empire, territorial gains (WWPs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impact did the Crimean war have on the Concert of Europe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Ended it (broke up order of COV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impact did this break up have on Germany &amp; Italy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Allowed for their unification (since powers couldn’t unite against it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y was Piedmont the natural place for Italian unification to start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most independent &amp; industrial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did Cavour think was the key to unification of Italy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Economic strength that would make Italy a viable state and a monarchy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ich “romantic republican” founded the Young Italian Society?  What was their goal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Guiseppe Mazzini, a unified Italy with a republican gov’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y did the Pope resist Italian unification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wanted to keep the independence of the Papal States (which were under his control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o did Cavour secure help from in Piedmont’s fight against Austria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Napoleon III (France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priorities did Garibaldi demonstrate when he turned over Southern Italy to Cavour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nationalism over republicanism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he declare in the Berlin Decree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tart of Cont. system, no trade with GB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o was the first king of a united Italy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Victor Emmanuel (of Piedmont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state was sick of being second to Austria in Germany?  Who was it’s chief minister in 1862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Prussia, Otto von Bismarck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Bismarck wanted unification by ____ &amp; ____, which symbolized what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blood &amp; iron, war &amp; industrial strength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was the first “war of German unification” &amp; what was at stake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Danish War (1864), Holstein &amp; Schleswig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How did Bismarck use the Danish war to deal with Austria?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Conflict over spoils of war leads to Austro-Prussian War in 1866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document played on French fears &amp; started the Franco-Prussian War? What did the French fear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Ems Dispatch, a Hohenzollern king of Spain (Germans on both sides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Name 2 key outcomes of the Franco-Prussian War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end of Nap III (start of 3rd Rep.), finalizes Ger. Uni. (southern states), new mil. tactic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How did Bismarck, a conservative, overcame the Ger. Libs.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Using cons. Institutions (e.g. army),  F-P war, N. Ger. Confed.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forced Napoleon III to be more liberal at home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foreign policy failures (Italy &amp; Mexico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Describe the politics of the Paris Commune relative to the French provinces.  What was the Paris Commune pushing for in 1871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More radical, a radical French republic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supported the Spanish Guerillas against Napp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C Church &amp; GB (Wellington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group lay siege to Paris to remove the Commune from power? What did Marxists call this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French Army under orders of NA, class warfar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y did French Monarchists in the NA fail to establish a monarchy?  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Couldn’t find a king (Bourbon refused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was the Dreyfus Affair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Jewish French Army captain unjustly accused of spying for Germany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Name two key outcomes of the Dreyfus Affair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cleared way for 3rd Rep., embarrassed Conservs., demonstrated anti-Semitism of the era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were 3 chief characteristics of Austria in 1860?  Why did these characteristics conflict with the rest of Europe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dynastic, absolutist &amp; agrarian, rest of Europe was becoming more industrial and democratic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forced the Hapsburgs to deal with the Magyars in 1867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no support from Russia, loss in A-P war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Name two characteristics of the Dual Monarchy of A-H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one king, separate legislatures, separate countries, some common ministers, common foreign policy &amp; defens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area were Austria &amp; Russia rivals for influence in the late 1800s?  What major event will this lead to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The Balkans, World War I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How did the other nats. in the Austrian emp react to the Dual Monarchy? Which nat. was most outspoken for equality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Wanted similar deal, Czech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were the three chief areas of Alex II’s reforms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army, serfs, government/judicial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was the war with Spain a major problem for Napp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low drain on resourc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Describe the cycle that Alex II’s reforms started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reform </a:t>
            </a:r>
            <a:r>
              <a:rPr b="0" i="1" lang="en-US" sz="4800" spc="-1" strike="noStrike">
                <a:solidFill>
                  <a:srgbClr val="646331"/>
                </a:solidFill>
                <a:latin typeface="Wingdings"/>
                <a:ea typeface="Wingdings"/>
              </a:rPr>
              <a:t></a:t>
            </a: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revolutionary activity </a:t>
            </a:r>
            <a:r>
              <a:rPr b="0" i="1" lang="en-US" sz="4800" spc="-1" strike="noStrike">
                <a:solidFill>
                  <a:srgbClr val="646331"/>
                </a:solidFill>
                <a:latin typeface="Wingdings"/>
                <a:ea typeface="Wingdings"/>
              </a:rPr>
              <a:t></a:t>
            </a: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 repression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How did  “Land &amp; Freedom”  try to start a revolution in Russia in the early 1870’s? What offshoot group assassinated Alex II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educating the peasants, People’s Will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did Alex III do to step up repression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secret police, censorship, repeal reform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Name 2 ways Gladstone opened up traditionally Aristocratic Institutions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CS exams, no ang. reqs. @ Ox. &amp; Cam., can’t buy commissions, secret ballo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y did Disraeli, a conservative, allow the expansion of suffrage in 1867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Thought new voters would vote conservativ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did many Irish landlords do with their peasants during the Potato famine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evicted them &amp; shipped them to the U.S.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were the two major problems that faced the Irish in the 1800s? What PM first tried to address these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English Prot. landlords &amp; tithes to Church of Ireland, Gladston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o traditionally opposed Irish Home Rule? Why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The Conservatives, represented the Anglican Church &amp; the interests of the landlord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y did Northern Ireland remain under the control of GB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it had a Protestant majority (Ulstermen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wo things that use the internal combustion engine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ars, subs, plan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At what time was he at his territorial peak? What basic area did he control at this tim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1810-11, the majority of continental Europ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he industries associated with the 2nd ind rev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teel, chemicals, oi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reasons why cities were restructured in the late 1800s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ealth, troop movement, centers for commerce, etc, housing reform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created a real interest in public health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C fear of cholera, new understanding of diseas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hings helped create new jobs for women in the late 1800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orps, burs, new tech.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goal of the 2nd International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unify soc. parties &amp; unio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s parliamentary socialis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orking within assembly to make chang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things MC women in the late 1800’s were expected to do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rovide home of virtue, lead family’s religious life, consumer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2 primary concerns of early union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ages &amp; working conditio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ssues made it hard for women to unify in their struggle for equal right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lass issues, national interests, differences over tactic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country took the lead in social refor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B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as the Czar of Russia at the time of Napoleon?  Name 2 areas where he clashed w/ Nappy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lexander I; Grand Duchy of Warsaw, possible marriage to his daughter, restrictions of Continental System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Nicholas II respond to the December Revolu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October Manifesto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Oct. Manifesto call fo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democratic gov’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made Marxism the main brand of socialism in the 1870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1st Internationa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revisionists like Bernstein believe revolts would never happen in Ger. &amp; Franc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tock ownership, broader franchise, improved standard of living (conditions are just getting too good for revolution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two principles of Bolshevis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dual revolution and elite revolutionary forc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problems with Russian industrialization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inefficient farming, profits leaving, small WC, bad conditio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Bismarck respond to failed repression of the GSPD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ocial reforms (insurance &amp; pensions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wo “invisible exports”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insurance, shipping, capita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barriers women faced to the professional world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xpectations, lack of ed, hostility &amp; bigotr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ere political feminists often associated with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ocialist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strategy did the Russians use to defeat Napoleon after his invasion in 1812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corched earth (destroy everything useful &amp; back up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ere the Fabian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ritish intellectual non-Marxist socialist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insisted on an elite revolutionary forc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eni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middle classes do after the Revs. of 1848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oved to protect their gai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as in charge of Russian industrialization in the late 19th Cent.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itt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mprovements were made to cut down on choler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ewers &amp; water systems, eliminate slaughterhous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Eiffel tower a symbol of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rance’s industrial strength (Liberalism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new explosives impact travel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R Tunnels through Mtn. rang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omen were paid less because____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“</a:t>
            </a: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didn’t need to support self”, lower skilled work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evelopment left owners with less risk and put casual workers closer to povert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weatshop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wo components of Russian anti-Semitism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ogroms, internal passports, living restrictions, censorship, limited jobs &amp; educ.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rallied to attack Napoleon from the east in 1813-14?  From the wes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ast: Austria, Prussia &amp; Russia; West: Great Britai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educational revolution of the late 1800s help people break free fro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intellectual surrounding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Give an examples of the clash between Church and state in the late 1800s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er’s Kulturkampf, GB over education, Fr. 3rd Rep vs. RC Church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’s philosophy marked a departure from rationalis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rederich Nietzsch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wo types of intellectuals that are challenging the Church in the late 1800s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istorians (evidence of JC), scientists (creation), soc. scientists (religion is a natural phenom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kinds of things did Freud say might cause psychological problem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hildhood experiences, excessive repression, exposure to Kilmer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has Freud’s thinking affected our modern world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hanged the way we view things, events, and most importantly peopl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Nietzsche insist man must do to achieve greatnes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ollow his instincts and pursue ecstas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Nietzsche claim Christianity and Democracy had done to ma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ade him meek and mediocr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Weber claim was the most significant development of the 19th Cent.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ureaucratizat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Weber believe that this had provided for each individual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 role in societ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Nappy benefit from the French Rev.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nationalism, military mobilizat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ere was his final military defeat?  What general led the opposi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aterloo, Wellington (from GB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realists depict the world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arsh reality of it, no dreams or illusions allowed, emptiness of the bourgeoisi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impressionists attempt to depic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heir full impression of the scene (sight, sound, emotion, light, etc.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modernists try to break free fro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raditional models for art, music, literature, etc.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s social Darwinis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elief in “survival of the fittest” in the social world - those who suffer do so because they are weak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Identify three reasons for New Imperialism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nationalism, industrialism, belief in cultural superiority, spread relig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n what continent was this new imperialism most eviden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fric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at least two of the big trends leading to WWI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industrial arms race, colonial rivalry, nationalism, allianc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wo nations started the colonization of Africa? What par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B &amp; France, northern sectio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GB’s goal in Afric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ape to Cairo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was China ripe for forced trade in the 1800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internal turmoi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his reorganization of the German states called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onfederation of the Rhin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worst example of European exploitation in Afric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King Leopold in the Congo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only two parts of Africa not colonized by 1900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thiopia and Liber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two clashes in Africa that fed animosity against GB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ashoda Crisis and the Boer War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U.S. policy for trade in Chin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Open Door Polic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British settlement came out of this polic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ong Kong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was trade with China so important to the European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hinese goods were in high demand in Europ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Chinese rebellion in response to the Open Door Polic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oxer Rebell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two examples of economically successful colonies in the 1800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Dutch Indonesia and British Ind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wo countries were huge colonial rivals in the Middle East and Asi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B &amp; Russ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the British “accidentally” introduce nationalism &amp; liberal ideas in Indi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ducating them in English in the Western fash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he bring an end to the Ancien Regim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pread ideals of Rev. across Europ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Bismarck’s primary foreign policy goal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void 2 front conflic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root of the tension between A-H &amp; Russi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erritorial interests in the Balka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oes France ultimately make an alliance with Russi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ots of $ invested in Russian industr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oes Germany antagonize GB in the early 1900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o make themselves look powerful so GB will want to ally with them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does GB make the Entente Cordial with in 1904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ranc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n 1914, who belonged to the Triple Allianc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Italy, Germany, A-H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n 1914, Who belonged to the Triple Entent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B, France &amp; Russ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event triggered war between these two alliance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ssassination of Archduke Franz Ferdinand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came in to back A-H? Serbi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ermany and Russ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basics of the Schlieffen Pla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wing through France with strong right, defeating them quickly then beating the Russia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goal of the Continental Syste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conomic defeat of GB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the Schlieffen Plan fail? What did this lead to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eak right, digging trenches on Western Fron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two major actions on the Western Front in 1916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erman attack on Verdun, Allied offensive at Somm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successful were these action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not at al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Allies trying to accomplish at Galipoli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reak through &amp; reestablish connection with Russ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three weapons that were used first in WWI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achine guns, tanks, airplanes, submarines, poison ga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s a war of attri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you try to win by wearing down the other sid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at least 4 causes of the Russian Revolution of 1917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eform-revolt-repress, industrialism, Nicky’s a weenie, Rev. of 1905, Crimea, R-J War, Duma-Duma-Dum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took control in the March Revolu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iberals/cadets (Provisional Gov’t lead by Kerensky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snuck Lenin back into Russi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erma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brought the U.S. into the wa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Zimmerman Telegram &amp; sinking of the Lusitan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wo things that led to the downfall of the Continental System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desire for luxury goods, British blockade, lack of unity behind Napoleon, desire to trade with GB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Germans do after the Bolsheviks surrendered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aunched an all out attack on the Western Fron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allowed the British and French to hold off this assaul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elp from the U.S.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the Germans try to counter the British blockad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ith the U-Boat (unterseebooten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Kerensky (and the provisional gov’t)’s biggest mistak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taying in the war vs. German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treaty of Brest-Litovsk give the German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ots of land &amp; an indemnit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the Bolsheviks have to sign this treat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needed to get out of war &amp; focus on keeping contro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as the political leader of the Bolsheviks? Military Leade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enin, Trotsk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three political factions in Russia at the time of the Revolution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ocial Democrats, Social Revolutionaries, Cadets, Czarist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Ludendorff surrender before the Allies reached German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anted mild peace according to 14 Point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three of Wilson’s 14 Points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ree seas, self determination, open diplomacy, League of Nations, “Peace Without Victory”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2 primary goals of the Congress of Vienn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ake sure that no one state ever dominated agai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wo major nations were excluded from the Paris Settlemen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USSR, German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4 ways that the Treaty of Versailles was hard on Germany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lame for war, huge reparations, Alsace-Lorraine, small army, dictated, demil-Rhineland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T of V do to A-H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plit it into 6 states, made it a nationalist &amp; economic mes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Wilson cash in his idealism fo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eague of Natio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is WWI truly an end to the old orde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ll old monarchies no longer exist (A-H &amp; Russia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trench warfare suck? (list at least three reasons)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achine guns, trench foot, boredom, shell shock, rats, barbed wir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law allowed RCs to serve in Parliament in 1829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atholic Emancipation Ac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party supported Irish Home Rule through the late 1800s &amp; early 1900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iberal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en was the Home Rule Bill eventually passed?  What delayed its implementa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1912, WWI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wo groups, one political &amp; one military, emerged to lead the Irish Nationalist movement after the Easter Rebellion of 1916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inn Fein and the IR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wo places did Nappy wind up in exil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lba &amp; St. Helen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mmediately followed the Irish Declaration of Independence in 1919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uerilla war between the IRA &amp; the British?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two critical ways Ulster is set apart from the rest of Ireland.  What do we commonly call Ulster now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rotestant majority &amp; economically prosperous, Northern Ireland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ssue separated the moderates and the radicals during the Irish Civil Wa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n oath of allegiance to the crow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Name 2 things that squash Wilson’s vision for peace.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Natty, economics, &amp; conservatism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o most wanted the Treaty of Versailles enforced? Wh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France, most damaged &amp; all alone vs. Ger.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ere did new industrial comp. come from after WWI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U.S. &amp; Japan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Name 2 groups who fought the Reds in the Russian Civil War.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Whites (Cadets), peasants, allie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Name 2 parts of War Communism.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Cheka, seize banks, grain, industry, transpor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was Lenin’s solution to the economic problems the Communists faced after the Russian Civil War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New Economic Policy (NEP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did the NEP allow peasants to do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sell grain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two main impacts of the 100 Day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eace tougher for France, kept A,GB &amp; F from fighting with P &amp; R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impact did the NEP have on the communist part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split i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Lenins death led to a power struggle between whom? Who was the victor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Stalin &amp; Trotsky, Stalin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was the main threat that fascist regimes responded to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spread of communism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do fascist rulers insist the individual must put before everything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the Stat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How did Muss. become Prime Minister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appointed by king after Black Shirts march on Rom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two things did France do immediately after WWI to secure themselves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Enforce T of V &amp; East Alliances (C, R &amp; Y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did France do in 1923 when Ger. fell behind on reps.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occupied Ruhr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How did this impact the Ger. econom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huge inflation, some unemploymen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Describe the economy in GB after WWI.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sluggish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How did the British working class respond to the 1926 cut in wages forced by the return to the gold std.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General Strike of 1926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reasons he bit the dust in Russia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old, starvation, scorched earth, won’t give him big battl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is the issue of contention in the Irish Civil War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oath of allegianc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at group of states was supposed to get self determination after WWI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the successor state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Out of which three former empires were the successor states composed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Germany, A-H, &amp; Russia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ich was the only successful one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Czechoslovakia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Which state wanted to unify with Ger.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Austria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How were political parties formed in the Balkans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along ethnic line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Name 1 flaw of the Weimar Cons..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46331"/>
                </a:solidFill>
                <a:latin typeface="Tahoma"/>
              </a:rPr>
              <a:t>small party representation &amp; dictatorial power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ahoma"/>
              </a:rPr>
              <a:t>Name 2 parts of the Nazi Party Platform.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331"/>
                </a:solidFill>
                <a:latin typeface="Tahoma"/>
              </a:rPr>
              <a:t>repudiation of T of V, unification of Aust &amp; Ger., eradication of Jews, agrarian reform, confiscation of war profits, etc.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the first attempted takeover by the Nazi Part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Beer Hall Putsch (Munich, 1923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two things helped reconstruct the Weimar Republic between 1925-1929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Dawes Plan &amp; Locarno agreement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Holy Allianc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lexander’s idea that the great powers should bind together and commit to Christian ideals to maintain peace in Europ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did the Dawes Plan do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restructured rep pay back (tied to Ger. economy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Name 2 of the key causes of the Great Depression.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Crisis in currency &amp; investments, commodities crisis,  lack of leadership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How did the crash of ‘29 affect U.S. investment in Europe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stopped i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y couldn’t farmers pay their debts in the ‘20s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glut of ag. goods in marke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How did most European gov’ts respond to the GD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cut spending, wage &amp; price control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o did the Popular Front in France oppose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right wingers (fascists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o rose to power in response to the GD in Ger.?  Who did they use as scapegoats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Nazis, Jews and Communist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did the clash between von Papen &amp; Schleicher allow to happen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Hitler becoming chancellor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did Hitler blame on the Communists &amp; use as an excuse to expand his power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Reichstag Fir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act of terror made the Nazi anti-Semitic program a clear realit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Kristallnach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ocument gave him this powe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onstitution of Year VIII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ere was “Nappy a Muslim”?  What does this show about his feelings toward relig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gypt, it’s a matter of convenience (he has no 1 strong set of religious views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the name of Hitler’s elite secret police force?  Who led it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SS, Himmler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kinds of propaganda were used by the Nazis?  Who was their minister of propaganda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marches, rallies, radio, print; Joseph Goebbel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the Nazis’ economic polic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Gear all production toward strong military stat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happened to the rights of organized labor in Germany &amp; Ital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What rights?, they were taken away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two organizations did the Italian Fascists use to control the econom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corporations &amp; syndicate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instrument guided the Soviet economy between 1927 &amp; 1942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the Five Year Plan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did these plans call for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rapid industrialization w/ specific goals for production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How did the plans expect to pay for these increases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grain exports from collectivized farm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class strongly opposed collectivized farming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kulaks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done to those who opposed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death or imprisonmen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he British minister who came up with a peace plan prior to the COV and two parts of his plan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astlereagh, Bourbons, buffer states, Quad Allianc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How much did Soviet industrial production increase between 1928 &amp; 1940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400%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the cost of this industrialization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millions of deaths, lack of economic equality, years of self denial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is the Cult of Personalit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worship of the ruler who embodies the greatness of the state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Stalin’s goal in the great Purges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eliminate all opposition w/in the Party (old Bolsheviks)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o would replace these people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new faces loyal only to him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At what point before WWII did Hitler say he was “done” adding territory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after Sudetenland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ere did Hitler look for territory after Czech.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Poland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treaty gauranteed his security on the eastern front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Nazi-Soviet Non-Aggression Pact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y did the Japanese bomb Pearl Harbor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the U.S cut off shipments of oil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ere was there a great deal of island hopping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Pacific Theater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movement started in Germany in response to Nappy &amp; the F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erman Nationalism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the goal of Operation Barbarossa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take the USSR before winter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delayed its start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having to go bail out Mussolini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the Allied invasion of Normandy called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D-Day/Op. Overlord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ere Truman’s two main options to defeat Japan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invasion or A-Bomb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was the Vichy government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controlled non-occupied France during WWII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3366"/>
                </a:solidFill>
                <a:latin typeface="Tahoma"/>
              </a:rPr>
              <a:t>What event led to hardships on the German homefront?</a:t>
            </a:r>
            <a:endParaRPr b="0" lang="en-US" sz="43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46331"/>
                </a:solidFill>
                <a:latin typeface="Tahoma"/>
              </a:rPr>
              <a:t>failure of Barbarossa</a:t>
            </a:r>
            <a:endParaRPr b="0" i="1" lang="en-US" sz="48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At what point before WWII did Hitler say he was “done” adding territory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after Sudetenland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ere did Hitler look for territory after Czech.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Poland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treaty gauranteed his security on the eastern front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Nazi-Soviet Non-Aggression Pact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y did the Japanese bomb Pearl Harbor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the U.S cut off shipments of oil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effect does Napoleon have on the political power of the Church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reatly diminishes i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ere was there a great deal of island hopping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Pacific Theater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was the goal of Operation Barbarossa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take the USSR before winter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delayed its start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having to go bail out Mussolini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was the Allied invasion of Normandy called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D-Day/Op. Overlord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were Truman’s two main options to defeat Japan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invasion or A-Bomb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was the Vichy government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controlled non-occupied France during WWII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event led to hardships on the German homefront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failure of Barbarossa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Name the last two big peace conferences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Yalta &amp; Potsdam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How was Germany divided after WWII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4 zones, one each for US, GB, Fr., USSR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How did the U.S. respond to the 1948 blockade of West Berlin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Airlift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ype of government was favored by the Congress of Vienn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egitimate Monarch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divided eastern &amp; western Europe after WWII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iron curtain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did Stalin call his plans for modernizing the USSR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5 year plans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Name two things Khruschev did to lessen Stalin’s influence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some freedoms, ag reform, more consumer goods, Secret Speech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How did the Soviets respond to the 1968 uprising in Cz.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sent in troops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o led Vietnamese resistance to French control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Ho Chi Minh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movement led to independence for Poland in 1989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solidarity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Name the 2 people that created a desire for buffer states in the USSR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Nappy &amp; Adolf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slowed UN actions after WWII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Soviet veto on the Security Council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provided US aid to European nations to keep them free from Communism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Marshall Plan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were the two main treaty organizations of the Cold War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NATO &amp; Warsaw Pact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oes the COV attempt to isolate Franc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ets up buffer states around it (Netherlands, Swiss Confed., Sardinia, etc.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was the basic idea of the Truman Doctrine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containment of Communism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Name two of the Crises of 1956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Suez, Poland, Hungary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organization was opposed to peace between Israel &amp; Egypt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PLO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How did the U.S. respond to Sputnik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space raceola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o’s set of major reforms brought an end to the USSR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Gorbachev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at were deGaulle’s priorities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hostility to U.S. &amp; GB, nukes, tension w/ NATO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ahoma"/>
              </a:rPr>
              <a:t>Which half did the US back in both Vietnam &amp; Korea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331"/>
                </a:solidFill>
                <a:latin typeface="Tahoma"/>
              </a:rPr>
              <a:t>south</a:t>
            </a:r>
            <a:endParaRPr b="0" i="1" lang="en-US" sz="40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were the two parts of Gorbachev’s reforms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erestroika and glasnos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the satellite states respond to the weakness of the USSR in 1989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“</a:t>
            </a: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evolted” for independenc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four areas that “revolted” in 1989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oland, E Ger., Czech., Romania, Hungary, 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oes the COV deal with the Confederation of the Rhin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urns it into Germanic Confederation, and Germany remains dissolute (not unified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ill back the State of Israel right from the beginning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he U.S. &amp; western Europ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ere the three possible ways Europe could be unified?  Which was most likel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olitical, military, </a:t>
            </a:r>
            <a:r>
              <a:rPr b="0" i="1" lang="en-US" sz="4400" spc="-1" strike="noStrike" u="sng">
                <a:solidFill>
                  <a:srgbClr val="646331"/>
                </a:solidFill>
                <a:uFillTx/>
                <a:latin typeface="Tahoma"/>
              </a:rPr>
              <a:t>economic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Give two examples of student protest in Europe in 1968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rague and Pari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has the focus of European feminism been for the last 60 year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ocial &amp; workplace equalit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led the movement for Indian independenc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ohandas Gandhi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agreement will start to lessen tension between Israel &amp; Egyp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amp David Accord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s the basic nature of the problem in the former Yugoslavi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any different ethnic/religious groups, discrimination outside common area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ere is the current conflict ther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Kosovo/Serb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Give two examples of Americanization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cDonalds, English, Levis, etc.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mpact did decolonization have on em/immigra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ormer colonizers &amp; colonial subjects go to Europ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“question” almost pushes the Quadruple Alliance into war with each other during the COV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olish-Saxon quest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existentialists think humans should get their value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determine their ow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n what two areas did romanticism flourish?  Wh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ermany and GB, most impacted by actions of Napp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What is the volksgeist?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pirit of the German peopl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his title when he first took over the government?  How much power did it give hi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irst Consul, pretty much absolut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period of history did many romantics look to for inspiration?  How can this be seen in their architectur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iddle Ages, gothic reviva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religious movement best captured the spirit of Romanticis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ethodism (John Wesley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Hegel’s view of the ongoing pattern of histor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hesis vs. anti-Thesis = Synthesis (which becomes the new thesis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Goethe’s message about knowledge &amp; religion in 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Tahoma"/>
              </a:rPr>
              <a:t>Faust</a:t>
            </a: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he pursuit of knowledge and a lack of faith can only lead you to the Devi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Kant argue proved the existence of God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he basic moral imperative in all human being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Rousseau serve as a bridge between the enlightenment and the romantic er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Emphasis on emotion and total experience in human educat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the Romantics reject the classic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ecause they rejected the idea that humans remain basically the same over tim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at least three English romantic poets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Keats, Byron, Wordsworth, Coleridge, Shelley, Johns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3 things Nationalists use to define nations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anguage, ethnicity, history, cultur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kind of people did liberals tend to b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ealthy, educated &amp; excluded 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wo parts of the Napoleonic Code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ivic equality, no guilds, promotion based on merit, end to social hierarchy, religious toleranc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did liberals want to deny representation to? Wh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ower classes, unfit for rep (nothing special about them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country eventually met reform with accommodation instead of repression?  What’s the best example of thi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reat Britain, Great Reform Bill of 1832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he two major goals of Earl Grey’s reform government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no more rotten boroughs and increase suffrag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ere the two main architects of the Congress of Vienn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astleragh &amp; Metternich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ent into Spain to crush their rev.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ranc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Act of Union do in 1800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laced Ireland under British rule and allowed them representation in Parliamen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many Tories respond to i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Didn’t like it, Wellington bails ou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wo things did the Belgians get their inspiration for revolt fro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rench Rev. of 1830 &amp; the Oper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as given control of Belgium at the Congress of Vienna?  Why was Belgium “allowed” to revol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he Netherlands, powers too preoccupied/ambivalent to stop i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did the Great Powers decide to support the Greek Revolu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urther weaken the Ottoman Empir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wo groups supported his rise to powe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ourgeoisie &amp; land owning peasant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was the Great Reform Bill of 1832 such a succes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evolution unnecessary, kept institutions, brought economic interests into line with political interest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y was Metternich so concerned about the revolt in the 2 Sicilie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e wanted that area as a buffer zon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Catholic Emancipation Act do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llowed RC’s to serve in Parliamen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Protocol of Troppau do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ave the Great Powers permission to intervene in revolutions “for the good of Europe”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kind of people were the biggest proponents of Nationalis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riters &amp; historian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kind of people were usually conservative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ristocratic monarchist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time would the Conservatives liked to return to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re-French Rev. Europ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3 ideals the Liberals took from the Enlightenment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ree press, religious tolerance, equality before the law, unrestricted econom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How did conservatives view Constitution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orse than the plagu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kind of people led the revolutions in Latin America?  Where did they get their inspira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reole Elite, American Rev &amp; Napp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two things he did to squelch his domestic opposition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entralize government, execution, give them high government posts (with little power), secret police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gained the most economically from the revolutions in LA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reat Britai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took over for Castleragh &amp; kept GB from intervening in the Spanish Revolu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anning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did the Decembrists want to be Tsar?  Were they more liberal or conservativ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onstantine, liberal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dentify two characteristics of the reign of Nicholas I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epressive, gendarme of Europe, Official Nationality protects from corruption of Wes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king was ousted in the July Revolution?  What did he do to provoke revolu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harles X, ousted liberal ministry – issued 4 (July) ordinances 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class ousted hi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ourgeoisie, with force provided by the working clas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backed the independent Serbs against the Austrian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ussi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purpose of the Six Act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ake it easier to repress the reform demanders in GB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ere the Burchenshafte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tudent Nationalist groups in German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happened to the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anned by Metternich &amp; Carlsbad Decre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Nappy sell to the U.S. in 1803 because he needed cash for war?  What U.S. president bought it from hi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ouisiana, Jeffers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ich Karl was bad &amp; became a martyr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Karl Sand for killing the conservative playwrigh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basic idea of the Concert of Europ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Great Powers would get together to solve problem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problems led to calls for reform in GB after 1815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unger &amp; Unemployment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country/statesman had the most to lose from Nationalis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Austria (Metternich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reasons why GB was able to maintain industrial dominance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foreign markets, quality of goods, strong navy, coal &amp; ir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factors that contributed to the rise of the proletariat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wage labor market, end of guilds, no longer controlled means of product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examples of the poor working conditions women faced in the early 1800s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exual harassment, wage discrimination, unsafe machinery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2 things that happened to the family as a result of industrialization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other provides domestic support, less time together, just unit of consumpt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the Factory Act of 1833 do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limited child labor to 9 hrs/day, must be 9, 2 hrs. of ed.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led to division of labor by making things in uniform sizes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confection system (uniform sizes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efeat in 1805 convinced Nappy to turn East in search of territor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rafalgar (the British &amp; Lord Nelson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Name 3 probs. that were evident across Europe in 1848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hunger, unemployment, city strife, conservative oppression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action was intended to help feed the poor in Ireland but led to more free grain trad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epeal of the Corn Law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is the primary basis for classical economic thought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the free market (Laissez Faire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thought the population would eventually outstrip the food suppl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Malthu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se Iron Law of Wages justified low wages?  What else did this justif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icardo, opposition to labor unions who push for high wag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pushed the concept of utility combined with reas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Bentham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did Europeans use as a model for prison reform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prisons in U.S. (Philadelphia system)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at was the driving force behind the creation of the modern urban police force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Rising crime and the desire of the MC for order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was the pioneer of socialism?  Who did he believe should control the means of production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Saint Simon, industrial and intellectual elites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Who thought he could successfully build utopias based on textile manufacturing?  Where did he succeed?  Fail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09640" y="32004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331"/>
                </a:solidFill>
                <a:latin typeface="Tahoma"/>
              </a:rPr>
              <a:t>Owen, Scotland &amp; Indiana</a:t>
            </a:r>
            <a:endParaRPr b="0" i="1" lang="en-US" sz="4400" spc="-1" strike="noStrike">
              <a:solidFill>
                <a:srgbClr val="646331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21:23:39Z</dcterms:created>
  <dc:creator>Preferred User </dc:creator>
  <dc:description/>
  <dc:language>en-US</dc:language>
  <cp:lastModifiedBy>Susan Gregory</cp:lastModifiedBy>
  <cp:lastPrinted>2009-04-22T19:24:48Z</cp:lastPrinted>
  <dcterms:modified xsi:type="dcterms:W3CDTF">2003-05-07T04:51:31Z</dcterms:modified>
  <cp:revision>7</cp:revision>
  <dc:subject/>
  <dc:title>What island did Napoleon come from?</dc:title>
</cp:coreProperties>
</file>